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CAF7-B016-4E45-87A0-CD6560000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184B-F70C-47BF-8A36-B9708AD3B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2F4C-E08D-4856-9ECA-4D2BCE0F5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2653-22E4-45DE-A09D-6733E09E3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C69-CDD6-4CC3-8EAD-D2B34CE3A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0F74-A477-4F48-952F-F1CE413D4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B646-779C-41D2-8488-3BD072D1B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7B09-E859-4B55-A7A5-1BEBD2487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532-479B-449C-8447-E139AB513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r 1 had the highest number of successes, playing the optimal strate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r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5D0-2D67-4523-88D6-B9578178C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9A4-A7BF-4591-B9DE-D2A1DE11C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chi-squared stat show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4086-188A-49E3-B317-3F6BFBF85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BEF2-2DE8-456C-A1D0-CFF2A2D8F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7259-65C5-42A9-A1F4-69B79D028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option: create cards and do a mock, or show a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4AD-7237-4C25-848C-6097C7CE5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96B-3866-4F02-B099-E6257F0AC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DC8-65A1-41C5-9683-E4DD300CF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EDC-916F-4336-9CEC-1006B3D22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C83-C55C-44AC-A691-CE4770584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6E4-50CC-4E45-8BCA-4131D3A56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088-2BFF-4558-961F-989BCB24C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CF9-D314-4DEB-A46D-7F8DF02E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A6B-0E1C-4E29-81F0-85778A4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7B4-C1C5-4595-BE74-68FBE7DD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1FB-9850-4C9E-BA5D-EAAFB0E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6B1-540B-466E-A449-B9DD1E4F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348-76BE-4F25-8EFD-DC49AFF3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99BE-CE14-43E9-9E1D-ED05535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58B-2F85-4449-9E92-D2C738F3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4DA9-EAC8-4745-B136-5201A9A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4E5-8339-4BDE-9D35-16B803D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42C-07B7-4E3E-A308-0976D50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F5B-C6B3-4D20-91A4-AF60918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646-D6FF-468A-8D91-31D8A111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E8E-81F9-4A93-A0C6-77E09CB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E065-02F2-4863-9388-3E8ACF6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499-155A-4088-9924-AFCE7678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121-1E08-4FAC-9A7C-CB28E0BD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A597-0FBD-4588-B99D-6BF64E02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987A-6BB9-413B-98D9-A88FECC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0D3B-4EC7-4003-B8EB-30895D6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F19F-0AD1-4D17-9ABD-20A9DD0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B389-B707-4C26-A898-CB6F350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9A2-224C-4F6F-97B5-0EC95CB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DB87-E8EF-42C0-9C02-0130C32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C69B-986D-48E3-99D9-7EECB14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AD94-5285-4FF0-951D-A7CA88B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C318-E1CD-4408-92EC-30DEEDC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8B30-42FC-42F7-905C-30457CD3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F977-E6BD-4B13-9C0A-A2DC0F14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CE68-4906-43B6-9556-BF4C69D4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1EAE-92D1-49D8-94C0-EE32A4A8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EAA1-8366-4522-93E5-76222C0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D9CB-DF93-44AF-813E-A98A77B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99E-F55B-43B9-8B89-BED72C0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E036-B4D1-4CAF-919E-F6DB1617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EC19-8994-4DFB-A999-B506CE3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CC66-973C-4225-BC87-17134F9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407A-8C1F-4961-BCAD-8E0F925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1EA0-ECDB-450C-9ED2-7EE4F8D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69CA-3AC8-4AAB-A4E0-4210604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8526-808A-4151-BEFE-AB813E95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27D4-D966-4534-B221-F7C1613F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5895-6338-4007-82C3-1269ACB3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9592-52E9-4820-839F-D1F1DB0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BEA-4291-4961-8192-A60CD51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AC6F-002A-4F35-9CB5-3F9910B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583A-C402-4B80-9BEF-0A2834D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25FD-A44C-4E2D-BA8C-B9B5980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E4EAB-0741-4FCB-B852-668F517E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46BBC-5A0B-4260-A84C-8D1C21E4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3876-E123-4FF4-A8A6-F43DC92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2DC0-24E6-4157-A4E2-D379F00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1B35A-87FD-40B1-AAB0-4D57D27A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F11A-A12D-45F5-8F41-45AA769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729E-4031-4EE6-8153-19588E5A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D63-21A9-4003-A9B0-AADD041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C962-3D30-49BA-BC63-F6AB8EA7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E592-A994-460A-8041-4A513DA8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E304-2478-407A-BABF-2C722B3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1E5B-7358-4CDF-AE93-1334504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C17D-BD6B-4E83-8520-C7725AFE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23C9-6725-4549-9F3F-1A6493E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2464-E14C-44F1-ADC5-9BE907E3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34EF-0C85-4C8A-8260-3B548CD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7B240-E5B3-468B-9283-73F3DE5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02EF-1CAC-4BE3-9F7C-FEE07CD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A4-AA42-469A-BED4-A65F335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6011-7C7D-41AB-A059-BA52664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E3B7-1F9D-4099-BAC3-9719CC59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C3EF-E988-4EC1-B340-38E41605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C6E70-E230-4816-BB6D-CB7F1652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1B23-1605-44EC-A87C-365FC969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17C5-46A5-4339-B61B-1842EC1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48B8-5A5B-4899-A630-D981CEA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26FD-7CB5-426C-AFFB-3EA3E58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F063-1631-4DDB-BBBA-268ECCC8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00B6-1ABD-4FFD-88FF-83295E9D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6E1-5B2E-4BB3-ABF1-C0C5A4D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7F8F5-86C4-4606-9DA8-3835F68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7DA8-CB2A-44C2-A8B7-A05E0CA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692C-2890-4D54-B362-D8689D0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CDAA-4B05-469F-BFE7-9615F3B9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C0E2-1B0B-437C-9D2E-A3AA8223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0F6-B41D-4D8A-B46E-ECD53F1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1F4-D155-4EAF-A958-0380CAA0046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2C1-C90E-454B-9B46-B63ABF9385B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5A3-B8C5-49B4-B403-722D033CE032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C34-5D5B-4339-ABEE-F60F7A70C36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playing-cards2.jpg"/>
          <p:cNvPicPr/>
          <p:nvPr/>
        </p:nvPicPr>
        <p:blipFill>
          <a:blip r:embed="rId3"/>
          <a:stretch/>
        </p:blipFill>
        <p:spPr>
          <a:xfrm>
            <a:off x="5257800" y="0"/>
            <a:ext cx="414504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2F9-FA03-4FFF-A18C-85FD57FD2A4F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BE40-7AE3-41C0-A723-D31C710DD74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019-C633-4336-AE16-5E4906EF9F2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F65-6B32-49A8-8CE4-4AA1524EFC3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070-8DD4-436E-ACC4-75DBC4A1A86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DBA-236D-42FC-ABAB-C4F4203091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7A3-A24B-477B-AB35-4CBE6720289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5F42-C5B8-460C-B434-1939AFB70D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BE3-6776-4A88-858F-6EC748782A3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79EE-CDC0-49C5-9716-B5DE37BE5E0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1307-107B-46EC-BB59-6C6DE421F18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playing-cards2.jp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3810240"/>
          </a:xfrm>
          <a:prstGeom prst="rect">
            <a:avLst/>
          </a:prstGeom>
          <a:ln w="0">
            <a:noFill/>
          </a:ln>
        </p:spPr>
      </p:pic>
      <p:pic>
        <p:nvPicPr>
          <p:cNvPr id="316" name="Title 1" descr=""/>
          <p:cNvPicPr/>
          <p:nvPr/>
        </p:nvPicPr>
        <p:blipFill>
          <a:blip r:embed="rId2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943600" y="3452400"/>
            <a:ext cx="28195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ex Ch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enry Ch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t Dori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aina Khum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lia Lam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E72-C281-4460-A456-F7C70F712A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1A19-62E1-49A7-BB7C-E4C5985B40E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D9DE-A043-4C51-BEAA-7C5974D569F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5458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rst, we randomly assigned an order to the cards -- “digitally shuffling” the dec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rcRect l="0" t="26003" r="53751" b="30000"/>
          <a:stretch/>
        </p:blipFill>
        <p:spPr>
          <a:xfrm>
            <a:off x="1523880" y="2895480"/>
            <a:ext cx="5639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FAD-AA27-42D5-BFD1-83007992EF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38000"/>
          </a:bodyPr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then, in a similar fashion, assigned a random order to the players for each gam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nd a strategy to each player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2"/>
          <a:srcRect l="0" t="26225" r="64653" b="50300"/>
          <a:stretch/>
        </p:blipFill>
        <p:spPr>
          <a:xfrm>
            <a:off x="1905120" y="2362320"/>
            <a:ext cx="495612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7" descr=""/>
          <p:cNvPicPr/>
          <p:nvPr/>
        </p:nvPicPr>
        <p:blipFill>
          <a:blip r:embed="rId3"/>
          <a:srcRect l="0" t="35339" r="49001" b="40668"/>
          <a:stretch/>
        </p:blipFill>
        <p:spPr>
          <a:xfrm>
            <a:off x="2184480" y="5029200"/>
            <a:ext cx="4749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E04-D1FC-4CE0-9442-AFA799C5A07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46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then simulate the game starting with the assigned dealer and guesser, the guesses themselves, the strategy each player incorporates, and whether they are right or wro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2"/>
          <a:srcRect l="0" t="26003" r="39378" b="30000"/>
          <a:stretch/>
        </p:blipFill>
        <p:spPr>
          <a:xfrm>
            <a:off x="685800" y="2819520"/>
            <a:ext cx="789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E3B4-3C04-46F1-8E79-19D41F74687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viewing the results of F*#$ the Dealer after all 52 cards are played yields the following results for all players for one gam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rcRect l="3614" t="27000" r="51250" b="37001"/>
          <a:stretch/>
        </p:blipFill>
        <p:spPr>
          <a:xfrm>
            <a:off x="990720" y="2895480"/>
            <a:ext cx="703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5397-623E-4E8F-B709-D6A51D17A27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llows you to see the results of a large number of possible outcomes which allows you to estimate the probability of occurr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ing these estimates, we are able to identify the best strategy, and quantify the impact of using i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13CA-26C4-4FCE-8CCB-CE1CBB783B1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ran the Monte Carlo simulation 100,000 times and aggregated the following result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1" descr=""/>
          <p:cNvPicPr/>
          <p:nvPr/>
        </p:nvPicPr>
        <p:blipFill>
          <a:blip r:embed="rId2"/>
          <a:srcRect l="3647" t="26834" r="51250" b="41503"/>
          <a:stretch/>
        </p:blipFill>
        <p:spPr>
          <a:xfrm>
            <a:off x="1295280" y="3048120"/>
            <a:ext cx="6599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3DD-3457-4399-A28E-D650903E24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6" name="Object 4" descr=""/>
          <p:cNvPicPr/>
          <p:nvPr/>
        </p:nvPicPr>
        <p:blipFill>
          <a:blip r:embed="rId2"/>
          <a:stretch/>
        </p:blipFill>
        <p:spPr>
          <a:xfrm>
            <a:off x="1346040" y="1698480"/>
            <a:ext cx="5994720" cy="3965760"/>
          </a:xfrm>
          <a:prstGeom prst="rect">
            <a:avLst/>
          </a:prstGeom>
          <a:ln w="0">
            <a:noFill/>
          </a:ln>
        </p:spPr>
      </p:pic>
      <p:sp>
        <p:nvSpPr>
          <p:cNvPr id="407" name="Line 5"/>
          <p:cNvSpPr/>
          <p:nvPr/>
        </p:nvSpPr>
        <p:spPr>
          <a:xfrm>
            <a:off x="2666880" y="46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 flipV="1">
            <a:off x="2514600" y="27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368960" y="445464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ime Spent as De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2209680" y="2197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Su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457200" y="5638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player using the ‘optimization’ strategy performs best on both metrics, but only narrowly better than the ‘most likely’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B48F-DBA9-4BEC-9610-503BCD1632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f the chi-square statistic exceeds a critical value, we can be sure (given a certain confidence level), that Player X and Player Y success rates are significantly different (i.e., not different just due to happenstance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4954680"/>
          <a:ext cx="5867640" cy="1598400"/>
        </p:xfrm>
        <a:graphic>
          <a:graphicData uri="http://schemas.openxmlformats.org/drawingml/2006/table">
            <a:tbl>
              <a:tblPr/>
              <a:tblGrid>
                <a:gridCol w="1055880"/>
                <a:gridCol w="1487520"/>
                <a:gridCol w="1539720"/>
                <a:gridCol w="1784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c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il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=A+B+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6" name="Object 39" descr=""/>
          <p:cNvPicPr/>
          <p:nvPr/>
        </p:nvPicPr>
        <p:blipFill>
          <a:blip r:embed="rId2"/>
          <a:stretch/>
        </p:blipFill>
        <p:spPr>
          <a:xfrm>
            <a:off x="1905120" y="3784680"/>
            <a:ext cx="53337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E824-7683-4473-92B3-D31155FE98C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20" name="Content Placeholder 5"/>
          <p:cNvSpPr/>
          <p:nvPr/>
        </p:nvSpPr>
        <p:spPr>
          <a:xfrm>
            <a:off x="457200" y="29718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to play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*#$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the Deale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lle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timal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E963-33F1-4494-9BBD-7EFC130A15D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469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1’s strategy is superior to players’ 2, 3, and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2’s strategy is superior to players’ 3 and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3’s strategy is superior to players’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40" descr=""/>
          <p:cNvPicPr/>
          <p:nvPr/>
        </p:nvPicPr>
        <p:blipFill>
          <a:blip r:embed="rId2"/>
          <a:srcRect l="3750" t="27000" r="57501" b="26003"/>
          <a:stretch/>
        </p:blipFill>
        <p:spPr>
          <a:xfrm>
            <a:off x="1828800" y="297180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FB2-F71C-4B0A-A005-26C04E07230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best strategy is #1 – ‘Optimization’ strateg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ven though playing this strategy is the best, it is only marginally better than the ‘most likely’ strateg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s is an example of applying this process to a trivial situation, but a similar approach can be applied to real business scenario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Quantifying the impact of different product/pricing strategies in a complex environment with various competitors and strateg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DC5-3EFE-4EF2-B747-0D93473788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1 tries to guess what the first card of a shuffled deck i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Dealer confirms whether the guess is correct, higher, or lowe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f wrong, Player 1 guesses agai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f right o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guess, the dealer takes a drin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f wrong o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guess, Player 1 takes a drin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card is laid face-up on the tabl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2 repeats the abo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Dealer passes the deck to the left after three players in a row guess incorrect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B248-FB3D-416A-88D9-5A983E603A1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sign a model of the gam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dentify the best strategy for a player to use in order to avoid taking drinks and becoming/remaining the dealer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Quantify the effect of using different strateg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1A4-3510-4B3A-B5D6-F2BB7D8FCD4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3573-30E9-479E-8B25-F6F11E878C5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obability of correct guess =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2"/>
          <a:stretch/>
        </p:blipFill>
        <p:spPr>
          <a:xfrm>
            <a:off x="61920" y="2230560"/>
            <a:ext cx="9067680" cy="6588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5"/>
          <p:cNvSpPr/>
          <p:nvPr/>
        </p:nvSpPr>
        <p:spPr>
          <a:xfrm rot="5400000">
            <a:off x="68544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68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90440" y="3381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8bba"/>
                </a:solidFill>
                <a:latin typeface="Corbel"/>
              </a:rPr>
              <a:t>Probability of Correct Firs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 rot="5400000">
            <a:off x="247608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1981080" y="33814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Probability First Guess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 rot="5400000">
            <a:off x="621000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5715000" y="33814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rbel"/>
              </a:rPr>
              <a:t>Probability First Guess is too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 rot="5400000">
            <a:off x="4228920" y="249228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733920" y="3381480"/>
            <a:ext cx="129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Probability of Correct Given First Guess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 rot="5400000">
            <a:off x="796248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7467480" y="33814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rbel"/>
              </a:rPr>
              <a:t>Probability of Correct Given First Guess is too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353880" y="5167440"/>
                <a:ext cx="80409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ard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ax Cards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ax Cards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rds Remainin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1BE-6D29-4DE5-AFAA-13BCE83639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546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a card to maximize the sum of the following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number of cards remaining of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x number of cards remaining of the card lower than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x number of cards remaining of the card higher than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4238640"/>
          <a:ext cx="8153280" cy="118908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Line 160"/>
          <p:cNvSpPr/>
          <p:nvPr/>
        </p:nvSpPr>
        <p:spPr>
          <a:xfrm flipV="1">
            <a:off x="3581280" y="38714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1"/>
          <p:cNvSpPr/>
          <p:nvPr/>
        </p:nvSpPr>
        <p:spPr>
          <a:xfrm>
            <a:off x="2724120" y="35053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</a:t>
            </a:r>
            <a:r>
              <a:rPr b="1" lang="en-US" sz="1800" spc="-1" strike="noStrike" baseline="30000">
                <a:solidFill>
                  <a:srgbClr val="008000"/>
                </a:solidFill>
                <a:latin typeface="Corbel"/>
              </a:rPr>
              <a:t>st</a:t>
            </a: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2"/>
          <p:cNvSpPr/>
          <p:nvPr/>
        </p:nvSpPr>
        <p:spPr>
          <a:xfrm>
            <a:off x="190512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(Correct Guess)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+ 3 + 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4"/>
          <p:cNvSpPr/>
          <p:nvPr/>
        </p:nvSpPr>
        <p:spPr>
          <a:xfrm>
            <a:off x="3733920" y="5516640"/>
            <a:ext cx="16002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5"/>
          <p:cNvSpPr/>
          <p:nvPr/>
        </p:nvSpPr>
        <p:spPr>
          <a:xfrm>
            <a:off x="3200400" y="5516640"/>
            <a:ext cx="16765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6"/>
          <p:cNvSpPr/>
          <p:nvPr/>
        </p:nvSpPr>
        <p:spPr>
          <a:xfrm>
            <a:off x="5075280" y="5524560"/>
            <a:ext cx="63972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7"/>
          <p:cNvSpPr/>
          <p:nvPr/>
        </p:nvSpPr>
        <p:spPr>
          <a:xfrm flipV="1">
            <a:off x="5715000" y="5541840"/>
            <a:ext cx="2666880" cy="84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F24-7D2E-4137-93C3-356B7CDFC1A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622-0659-4C37-8689-7DB0E6E75B8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808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the card that is least shown on the tab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ies broken by random selec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33520" y="3233880"/>
          <a:ext cx="8153280" cy="119052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Line 160"/>
          <p:cNvSpPr/>
          <p:nvPr/>
        </p:nvSpPr>
        <p:spPr>
          <a:xfrm flipV="1">
            <a:off x="3171960" y="29570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1"/>
          <p:cNvSpPr/>
          <p:nvPr/>
        </p:nvSpPr>
        <p:spPr>
          <a:xfrm>
            <a:off x="228600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</a:t>
            </a:r>
            <a:r>
              <a:rPr b="1" lang="en-US" sz="1800" spc="-1" strike="noStrike" baseline="30000">
                <a:solidFill>
                  <a:srgbClr val="008000"/>
                </a:solidFill>
                <a:latin typeface="Corbel"/>
              </a:rPr>
              <a:t>st</a:t>
            </a: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3520" y="5121360"/>
          <a:ext cx="8153280" cy="119052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Line 160"/>
          <p:cNvSpPr/>
          <p:nvPr/>
        </p:nvSpPr>
        <p:spPr>
          <a:xfrm flipV="1">
            <a:off x="7439040" y="486216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1"/>
          <p:cNvSpPr/>
          <p:nvPr/>
        </p:nvSpPr>
        <p:spPr>
          <a:xfrm>
            <a:off x="65530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s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612000" y="28926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536040" y="4797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1:04:43Z</dcterms:created>
  <dc:creator>Julia Lamm</dc:creator>
  <dc:description/>
  <dc:language>en-US</dc:language>
  <cp:lastModifiedBy>Julia Lamm</cp:lastModifiedBy>
  <dcterms:modified xsi:type="dcterms:W3CDTF">2010-12-13T18:16:19Z</dcterms:modified>
  <cp:revision>84</cp:revision>
  <dc:subject/>
  <dc:title>Slide 1</dc:title>
</cp:coreProperties>
</file>